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F2A-780D-4DBE-920E-3C2BF0C7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F32-93E1-4086-B96A-262873E1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C13-A1AF-499A-A0E8-1F0B8D3A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8B3-2A72-4397-ABCD-9780DB61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AF9-F24C-44C3-ADC1-E5A2A6F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578-3AA8-4F8B-B388-661509DE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F00-57F1-4D21-B644-B86FDB01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397-2EB6-4185-A0AB-B93573B4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877-CF14-417C-9E9F-ED269331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645-52B0-4ABF-AC08-6E68F1F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3D8-D611-4A97-B7D6-96FF4753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ACF-6681-4BA3-8B89-1CC12D9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A0D3-4A54-456C-88FA-FBF83FF90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etoys.com/Fisher-Price-Elmo-Live/PID/4827261/ctid/17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odoni MT Black"/>
              </a:rPr>
              <a:t>The Heimlich Mane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e Gonzal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remember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Not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censed physician should be consulted for diagnosis and treatment of all medical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never a warning before a person gets an object caught in their throat and starts cho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4647960" cy="331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4724280" cy="3375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and drug consumption (even a small amount affects awareness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uma to the head and face (bleeding can cause choking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objects swallowed by children (beads, to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o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all Meals"/>
          <p:cNvPicPr/>
          <p:nvPr/>
        </p:nvPicPr>
        <p:blipFill>
          <a:blip r:embed="rId2"/>
          <a:stretch/>
        </p:blipFill>
        <p:spPr>
          <a:xfrm>
            <a:off x="5410080" y="16765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8098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k of Oxyg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rning the Heimlich Maneuver-a simple life-saving technique-you may literally save the life of a choking victim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mlich Maneu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ifts the diaphragm and forces enough air from the lungs to remove the obstr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 I Use The Heimlic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grabbing the throat with the hand (the universal sign for chok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tice they are gag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 a weak ineffective cough, noisy breathing, or high-pitched s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starting to look bl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4476600"/>
            <a:ext cx="3333600" cy="2381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4476600"/>
            <a:ext cx="3333600" cy="2381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The Heimli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behind the choking person and wrap your arm around his or her w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your fist into the person’s abdomen with quick, upward thru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abdominal thrusts until the object is coughe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59:51Z</dcterms:created>
  <dc:creator>004student</dc:creator>
  <dc:description/>
  <dc:language>en-US</dc:language>
  <cp:lastModifiedBy>004student</cp:lastModifiedBy>
  <dcterms:modified xsi:type="dcterms:W3CDTF">2008-10-28T16:00:12Z</dcterms:modified>
  <cp:revision>4</cp:revision>
  <dc:subject/>
  <dc:title>The Heimlich Maneuver</dc:title>
</cp:coreProperties>
</file>